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D9C-BE88-4B26-8E33-8D4E8BEB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623-51A0-4583-8557-31988866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887-7DF8-40CE-A52D-234827CB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C5B-DA6A-4B79-8D77-341FA01D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3A5F-5544-4479-A1AD-AAAE5A5F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D057-A036-449E-88FB-848EB8A1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D2B-54D0-4905-BFF1-78DCBFA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64A2-91B2-4AD3-A9E5-CABA1E3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96C-1064-4E92-95AE-552D37D6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4A9D-A7AF-4132-8225-5B32107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BCF4-6F10-4C81-99D6-FE72D8E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65A-2241-4922-BD11-211E79A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BBF-CF81-47B9-A689-316DB76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6BBD-F304-40A1-92E8-E1E6F43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91E1-F71C-4A1E-9BE1-939BAE2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800C-F0D6-4986-A240-40F954DD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6BF-7340-42E9-B38D-C0BE5A25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6A7-AA00-4449-81FF-73AF190A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72C-DEF8-49E3-A4FB-739CE81D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1B1-9720-430A-916C-4013C82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44C-9DB8-496E-B971-1A2DD66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A7E-6CB8-4A49-ACDE-6FAC2C3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4FA-6397-409E-A07B-7B0389C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BCF-5C4F-4BDE-B7D3-E1E4CF1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8D6-27DE-4826-B982-14020D4294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2DAA-0AFB-46B6-86B0-D166FCC8D4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2924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26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eral equation of a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8920" y="1557360"/>
            <a:ext cx="662616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773360"/>
            <a:ext cx="74516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1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3A    Q 1,  Q2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12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ursday, 08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3313080" cy="7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B Standard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205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492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637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4 + 1      d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997360"/>
            <a:ext cx="36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49228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2565360"/>
            <a:ext cx="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573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+ 4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–  1  + 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386064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              4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429000"/>
            <a:ext cx="43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933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645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933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09-01-07T21:56:54Z</dcterms:modified>
  <cp:revision>26</cp:revision>
  <dc:subject/>
  <dc:title>Higher Circle</dc:title>
</cp:coreProperties>
</file>